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FDE63-AC09-45FF-BD1D-BDE967595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0666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42486-D45D-4D72-8827-6614DE581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0886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1E9D3-8361-4924-A929-887F5BF76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72060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37452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06668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72060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37452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4334C-860C-4439-906B-16ACD3333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F6F9F-DFE7-45F6-8C5A-0F2003652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7F37F-5B08-496B-BC52-EB9E41522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F33DD-ABB2-4048-B255-68D24287E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EDCA6-C45D-48BA-9405-EA507042F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466E0-61DF-4C6B-9E79-80E63FCD9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1143000" y="1418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33AE7-D9E8-40A1-9B1D-CAC12DC80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6B966-C972-436E-8462-C3B7B820F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535A5-106C-41E7-9ECF-FC5824EB0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886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B5A0F-33A9-4BC5-99D3-35685BABD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33B56-988B-435A-860E-2975EC75C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10666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A278C-B891-4C21-A37C-FF0474F92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886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63993-DF12-4C73-9346-53E3850FE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72060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37452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106668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72060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37452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5E663-444E-4562-A728-DD3C1A1A5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7801F-3132-4F33-8A2F-33891E763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E0613-549D-45E4-B23E-274E9E434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C2251-ECEB-4DD7-A353-6F238A0A4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43000" y="1418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8DBD9-034A-4D73-901A-54A8183E5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36CC7-7B9B-4773-987C-0657E7B7C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0886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DB55E-68E1-4686-AB5E-DF1152AF5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74EC9-B967-401E-9938-37CCF8A9D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52280" y="314280"/>
            <a:ext cx="847440" cy="6543000"/>
            <a:chOff x="152280" y="314280"/>
            <a:chExt cx="847440" cy="6543000"/>
          </a:xfrm>
        </p:grpSpPr>
        <p:sp>
          <p:nvSpPr>
            <p:cNvPr id="1" name="AutoShape 3"/>
            <p:cNvSpPr/>
            <p:nvPr/>
          </p:nvSpPr>
          <p:spPr>
            <a:xfrm flipH="1" rot="5400000">
              <a:off x="129600" y="3167640"/>
              <a:ext cx="894960" cy="844560"/>
            </a:xfrm>
            <a:prstGeom prst="parallelogram">
              <a:avLst>
                <a:gd name="adj" fmla="val 56113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 flipH="1" rot="5400000">
              <a:off x="129600" y="4110480"/>
              <a:ext cx="894960" cy="844560"/>
            </a:xfrm>
            <a:prstGeom prst="parallelogram">
              <a:avLst>
                <a:gd name="adj" fmla="val 56113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AutoShape 5"/>
            <p:cNvSpPr/>
            <p:nvPr/>
          </p:nvSpPr>
          <p:spPr>
            <a:xfrm flipH="1" rot="5400000">
              <a:off x="127440" y="5049720"/>
              <a:ext cx="894960" cy="844920"/>
            </a:xfrm>
            <a:prstGeom prst="parallelogram">
              <a:avLst>
                <a:gd name="adj" fmla="val 5609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AutoShape 6"/>
            <p:cNvSpPr/>
            <p:nvPr/>
          </p:nvSpPr>
          <p:spPr>
            <a:xfrm flipH="1" rot="5400000">
              <a:off x="131760" y="5992200"/>
              <a:ext cx="885240" cy="844560"/>
            </a:xfrm>
            <a:prstGeom prst="parallelogram">
              <a:avLst>
                <a:gd name="adj" fmla="val 55504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AutoShape 7"/>
            <p:cNvSpPr/>
            <p:nvPr/>
          </p:nvSpPr>
          <p:spPr>
            <a:xfrm flipH="1" rot="5400000">
              <a:off x="129600" y="339480"/>
              <a:ext cx="894960" cy="844560"/>
            </a:xfrm>
            <a:prstGeom prst="parallelogram">
              <a:avLst>
                <a:gd name="adj" fmla="val 56113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AutoShape 8"/>
            <p:cNvSpPr/>
            <p:nvPr/>
          </p:nvSpPr>
          <p:spPr>
            <a:xfrm flipH="1" rot="5400000">
              <a:off x="127440" y="1275480"/>
              <a:ext cx="894960" cy="844920"/>
            </a:xfrm>
            <a:prstGeom prst="parallelogram">
              <a:avLst>
                <a:gd name="adj" fmla="val 5609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AutoShape 9"/>
            <p:cNvSpPr/>
            <p:nvPr/>
          </p:nvSpPr>
          <p:spPr>
            <a:xfrm flipH="1" rot="5400000">
              <a:off x="127440" y="2221200"/>
              <a:ext cx="894960" cy="844920"/>
            </a:xfrm>
            <a:prstGeom prst="parallelogram">
              <a:avLst>
                <a:gd name="adj" fmla="val 5609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" name="Rectangle 10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AutoShape 11"/>
          <p:cNvSpPr/>
          <p:nvPr/>
        </p:nvSpPr>
        <p:spPr>
          <a:xfrm flipH="1">
            <a:off x="546840" y="1703520"/>
            <a:ext cx="8596440" cy="253800"/>
          </a:xfrm>
          <a:custGeom>
            <a:avLst/>
            <a:gdLst>
              <a:gd name="textAreaLeft" fmla="*/ -360 w 8596440"/>
              <a:gd name="textAreaRight" fmla="*/ 8596440 w 8596440"/>
              <a:gd name="textAreaTop" fmla="*/ 0 h 253800"/>
              <a:gd name="textAreaBottom" fmla="*/ 254160 h 253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4" y="0"/>
                </a:lnTo>
                <a:lnTo>
                  <a:pt x="21600" y="10800"/>
                </a:lnTo>
                <a:lnTo>
                  <a:pt x="212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Oval 12"/>
          <p:cNvSpPr/>
          <p:nvPr/>
        </p:nvSpPr>
        <p:spPr>
          <a:xfrm>
            <a:off x="460440" y="1706400"/>
            <a:ext cx="29520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Rectangle 13"/>
          <p:cNvSpPr/>
          <p:nvPr/>
        </p:nvSpPr>
        <p:spPr>
          <a:xfrm>
            <a:off x="463680" y="1913040"/>
            <a:ext cx="190440" cy="46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Oval 14"/>
          <p:cNvSpPr/>
          <p:nvPr/>
        </p:nvSpPr>
        <p:spPr>
          <a:xfrm>
            <a:off x="9209160" y="1676520"/>
            <a:ext cx="30456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Rectangle 15"/>
          <p:cNvSpPr/>
          <p:nvPr/>
        </p:nvSpPr>
        <p:spPr>
          <a:xfrm>
            <a:off x="457200" y="1739880"/>
            <a:ext cx="87519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" name="Group 16"/>
          <p:cNvGrpSpPr/>
          <p:nvPr/>
        </p:nvGrpSpPr>
        <p:grpSpPr>
          <a:xfrm>
            <a:off x="150840" y="0"/>
            <a:ext cx="849240" cy="6858000"/>
            <a:chOff x="150840" y="0"/>
            <a:chExt cx="849240" cy="6858000"/>
          </a:xfrm>
        </p:grpSpPr>
        <p:sp>
          <p:nvSpPr>
            <p:cNvPr id="15" name="AutoShape 17"/>
            <p:cNvSpPr/>
            <p:nvPr/>
          </p:nvSpPr>
          <p:spPr>
            <a:xfrm rot="16200000">
              <a:off x="129240" y="36374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AutoShape 18"/>
            <p:cNvSpPr/>
            <p:nvPr/>
          </p:nvSpPr>
          <p:spPr>
            <a:xfrm rot="16200000">
              <a:off x="128520" y="458100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AutoShape 19"/>
            <p:cNvSpPr/>
            <p:nvPr/>
          </p:nvSpPr>
          <p:spPr>
            <a:xfrm rot="16200000">
              <a:off x="127800" y="5523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AutoShape 20"/>
            <p:cNvSpPr/>
            <p:nvPr/>
          </p:nvSpPr>
          <p:spPr>
            <a:xfrm rot="16200000">
              <a:off x="128520" y="80604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AutoShape 21"/>
            <p:cNvSpPr/>
            <p:nvPr/>
          </p:nvSpPr>
          <p:spPr>
            <a:xfrm rot="16200000">
              <a:off x="127800" y="174816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AutoShape 22"/>
            <p:cNvSpPr/>
            <p:nvPr/>
          </p:nvSpPr>
          <p:spPr>
            <a:xfrm rot="16200000">
              <a:off x="127800" y="269424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155520" y="0"/>
              <a:ext cx="844560" cy="738360"/>
            </a:xfrm>
            <a:prstGeom prst="pie">
              <a:avLst/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150840" y="6445080"/>
              <a:ext cx="725400" cy="412920"/>
            </a:xfrm>
            <a:prstGeom prst="pie">
              <a:avLst/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541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9244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21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8C74E-E0C9-4DB4-A63B-01F22FF05C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65" name="Rectangle 3"/>
            <p:cNvSpPr/>
            <p:nvPr/>
          </p:nvSpPr>
          <p:spPr>
            <a:xfrm>
              <a:off x="0" y="0"/>
              <a:ext cx="9144000" cy="849240"/>
            </a:xfrm>
            <a:prstGeom prst="rect">
              <a:avLst/>
            </a:prstGeom>
            <a:gradFill rotWithShape="0">
              <a:gsLst>
                <a:gs pos="0">
                  <a:srgbClr val="1c6d9a"/>
                </a:gs>
                <a:gs pos="100000">
                  <a:srgbClr val="2181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Rectangle 4"/>
            <p:cNvSpPr/>
            <p:nvPr/>
          </p:nvSpPr>
          <p:spPr>
            <a:xfrm>
              <a:off x="0" y="4995720"/>
              <a:ext cx="9144000" cy="1862280"/>
            </a:xfrm>
            <a:prstGeom prst="rect">
              <a:avLst/>
            </a:prstGeom>
            <a:gradFill rotWithShape="0">
              <a:gsLst>
                <a:gs pos="0">
                  <a:srgbClr val="2181b7"/>
                </a:gs>
                <a:gs pos="100000">
                  <a:srgbClr val="1c6d9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7" name="Group 5"/>
          <p:cNvGrpSpPr/>
          <p:nvPr/>
        </p:nvGrpSpPr>
        <p:grpSpPr>
          <a:xfrm>
            <a:off x="152280" y="314280"/>
            <a:ext cx="847440" cy="6543000"/>
            <a:chOff x="152280" y="314280"/>
            <a:chExt cx="847440" cy="6543000"/>
          </a:xfrm>
        </p:grpSpPr>
        <p:sp>
          <p:nvSpPr>
            <p:cNvPr id="68" name="AutoShape 6"/>
            <p:cNvSpPr/>
            <p:nvPr/>
          </p:nvSpPr>
          <p:spPr>
            <a:xfrm flipH="1" rot="5400000">
              <a:off x="129600" y="3167640"/>
              <a:ext cx="894960" cy="844560"/>
            </a:xfrm>
            <a:prstGeom prst="parallelogram">
              <a:avLst>
                <a:gd name="adj" fmla="val 56113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AutoShape 7"/>
            <p:cNvSpPr/>
            <p:nvPr/>
          </p:nvSpPr>
          <p:spPr>
            <a:xfrm flipH="1" rot="5400000">
              <a:off x="129600" y="4110480"/>
              <a:ext cx="894960" cy="844560"/>
            </a:xfrm>
            <a:prstGeom prst="parallelogram">
              <a:avLst>
                <a:gd name="adj" fmla="val 56113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AutoShape 8"/>
            <p:cNvSpPr/>
            <p:nvPr/>
          </p:nvSpPr>
          <p:spPr>
            <a:xfrm flipH="1" rot="5400000">
              <a:off x="127440" y="5049720"/>
              <a:ext cx="894960" cy="844920"/>
            </a:xfrm>
            <a:prstGeom prst="parallelogram">
              <a:avLst>
                <a:gd name="adj" fmla="val 5609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AutoShape 9"/>
            <p:cNvSpPr/>
            <p:nvPr/>
          </p:nvSpPr>
          <p:spPr>
            <a:xfrm flipH="1" rot="5400000">
              <a:off x="131760" y="5992200"/>
              <a:ext cx="885240" cy="844560"/>
            </a:xfrm>
            <a:prstGeom prst="parallelogram">
              <a:avLst>
                <a:gd name="adj" fmla="val 55504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AutoShape 10"/>
            <p:cNvSpPr/>
            <p:nvPr/>
          </p:nvSpPr>
          <p:spPr>
            <a:xfrm flipH="1" rot="5400000">
              <a:off x="129600" y="339480"/>
              <a:ext cx="894960" cy="844560"/>
            </a:xfrm>
            <a:prstGeom prst="parallelogram">
              <a:avLst>
                <a:gd name="adj" fmla="val 56113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AutoShape 11"/>
            <p:cNvSpPr/>
            <p:nvPr/>
          </p:nvSpPr>
          <p:spPr>
            <a:xfrm flipH="1" rot="5400000">
              <a:off x="127440" y="1275480"/>
              <a:ext cx="894960" cy="844920"/>
            </a:xfrm>
            <a:prstGeom prst="parallelogram">
              <a:avLst>
                <a:gd name="adj" fmla="val 5609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AutoShape 12"/>
            <p:cNvSpPr/>
            <p:nvPr/>
          </p:nvSpPr>
          <p:spPr>
            <a:xfrm flipH="1" rot="5400000">
              <a:off x="127440" y="2221200"/>
              <a:ext cx="894960" cy="844920"/>
            </a:xfrm>
            <a:prstGeom prst="parallelogram">
              <a:avLst>
                <a:gd name="adj" fmla="val 5609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5" name="Rectangle 13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AutoShape 14"/>
          <p:cNvSpPr/>
          <p:nvPr/>
        </p:nvSpPr>
        <p:spPr>
          <a:xfrm flipH="1">
            <a:off x="546840" y="2717640"/>
            <a:ext cx="8596440" cy="254160"/>
          </a:xfrm>
          <a:custGeom>
            <a:avLst/>
            <a:gdLst>
              <a:gd name="textAreaLeft" fmla="*/ -360 w 8596440"/>
              <a:gd name="textAreaRight" fmla="*/ 8596440 w 8596440"/>
              <a:gd name="textAreaTop" fmla="*/ 0 h 254160"/>
              <a:gd name="textAreaBottom" fmla="*/ 254520 h 254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4" y="0"/>
                </a:lnTo>
                <a:lnTo>
                  <a:pt x="21600" y="10800"/>
                </a:lnTo>
                <a:lnTo>
                  <a:pt x="212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Oval 15"/>
          <p:cNvSpPr/>
          <p:nvPr/>
        </p:nvSpPr>
        <p:spPr>
          <a:xfrm>
            <a:off x="433440" y="2697120"/>
            <a:ext cx="29520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Rectangle 16"/>
          <p:cNvSpPr/>
          <p:nvPr/>
        </p:nvSpPr>
        <p:spPr>
          <a:xfrm>
            <a:off x="463680" y="2700360"/>
            <a:ext cx="161640" cy="41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Oval 17"/>
          <p:cNvSpPr/>
          <p:nvPr/>
        </p:nvSpPr>
        <p:spPr>
          <a:xfrm>
            <a:off x="9236160" y="2697120"/>
            <a:ext cx="30456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Rectangle 18"/>
          <p:cNvSpPr/>
          <p:nvPr/>
        </p:nvSpPr>
        <p:spPr>
          <a:xfrm>
            <a:off x="484200" y="2760840"/>
            <a:ext cx="87519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1" name="Group 19"/>
          <p:cNvGrpSpPr/>
          <p:nvPr/>
        </p:nvGrpSpPr>
        <p:grpSpPr>
          <a:xfrm>
            <a:off x="150840" y="0"/>
            <a:ext cx="849240" cy="6858000"/>
            <a:chOff x="150840" y="0"/>
            <a:chExt cx="849240" cy="6858000"/>
          </a:xfrm>
        </p:grpSpPr>
        <p:sp>
          <p:nvSpPr>
            <p:cNvPr id="82" name="AutoShape 20"/>
            <p:cNvSpPr/>
            <p:nvPr/>
          </p:nvSpPr>
          <p:spPr>
            <a:xfrm rot="16200000">
              <a:off x="129240" y="36374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AutoShape 21"/>
            <p:cNvSpPr/>
            <p:nvPr/>
          </p:nvSpPr>
          <p:spPr>
            <a:xfrm rot="16200000">
              <a:off x="128520" y="458100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AutoShape 22"/>
            <p:cNvSpPr/>
            <p:nvPr/>
          </p:nvSpPr>
          <p:spPr>
            <a:xfrm rot="16200000">
              <a:off x="127800" y="5523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AutoShape 23"/>
            <p:cNvSpPr/>
            <p:nvPr/>
          </p:nvSpPr>
          <p:spPr>
            <a:xfrm rot="16200000">
              <a:off x="128520" y="80604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AutoShape 24"/>
            <p:cNvSpPr/>
            <p:nvPr/>
          </p:nvSpPr>
          <p:spPr>
            <a:xfrm rot="16200000">
              <a:off x="127800" y="174816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AutoShape 25"/>
            <p:cNvSpPr/>
            <p:nvPr/>
          </p:nvSpPr>
          <p:spPr>
            <a:xfrm rot="16200000">
              <a:off x="127800" y="269424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Freeform 26"/>
            <p:cNvSpPr/>
            <p:nvPr/>
          </p:nvSpPr>
          <p:spPr>
            <a:xfrm>
              <a:off x="155520" y="0"/>
              <a:ext cx="844560" cy="738360"/>
            </a:xfrm>
            <a:prstGeom prst="pie">
              <a:avLst/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Freeform 27"/>
            <p:cNvSpPr/>
            <p:nvPr/>
          </p:nvSpPr>
          <p:spPr>
            <a:xfrm>
              <a:off x="150840" y="6445080"/>
              <a:ext cx="725400" cy="412920"/>
            </a:xfrm>
            <a:prstGeom prst="pie">
              <a:avLst/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4"/>
          </p:nvPr>
        </p:nvSpPr>
        <p:spPr>
          <a:xfrm>
            <a:off x="1119240" y="6318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5"/>
          </p:nvPr>
        </p:nvSpPr>
        <p:spPr>
          <a:xfrm>
            <a:off x="3557520" y="6318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6"/>
          </p:nvPr>
        </p:nvSpPr>
        <p:spPr>
          <a:xfrm>
            <a:off x="6986520" y="6318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1C82C-FC9D-435B-B4F5-3881981861E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3000" y="8139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Entry 4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Working in a 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Professional Community to 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Impact Student Learning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43000" y="385560"/>
            <a:ext cx="7772400" cy="1190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 Black"/>
              </a:rPr>
              <a:t>What Can You Do to Move Toward the NBPTS Standard?</a:t>
            </a:r>
            <a:endParaRPr b="0" lang="en-US" sz="36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In small groups, identify key concepts for which you have not yet addressed.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Discuss what you could do to improve your collaboration with colleagues to impact your students’ learning.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43000" y="14436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Family Partnership Standard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 Black"/>
              </a:rPr>
              <a:t>Independently, read the standard in your certificate for family and community and highlight the key concepts.</a:t>
            </a:r>
            <a:endParaRPr b="0" lang="en-US" sz="2600" spc="-1" strike="noStrike">
              <a:solidFill>
                <a:srgbClr val="ffffff"/>
              </a:solidFill>
              <a:latin typeface="Arial Black"/>
            </a:endParaRPr>
          </a:p>
          <a:p>
            <a:pPr marL="335880" indent="-3358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 Black"/>
              </a:rPr>
              <a:t>In small groups, list key concepts found in the standard and list on chart paper and post in the room.  Skip lines so there will be room for the post-its to be placed during the next activity.</a:t>
            </a:r>
            <a:endParaRPr b="0" lang="en-US" sz="2600" spc="-1" strike="noStrike">
              <a:solidFill>
                <a:srgbClr val="ffffff"/>
              </a:solidFill>
              <a:latin typeface="Arial Black"/>
            </a:endParaRPr>
          </a:p>
          <a:p>
            <a:pPr marL="335880" indent="-3358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 Black"/>
              </a:rPr>
              <a:t>Direct participants to independently take a gallery walk and read the key concepts from the standards. </a:t>
            </a:r>
            <a:endParaRPr b="0" lang="en-US" sz="26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43000" y="14400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Family Partnerships:</a:t>
            </a:r>
            <a:br>
              <a:rPr sz="4400"/>
            </a:b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What You Already Do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Review key concepts from the standards listed on chart paper.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In small groups, share specific activities you already do that shows evidence of the key concepts. 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Write each different activity on a post-it note and place the notes under the corresponding heading on the chart paper.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Report out to the whole group, reading the charts and post-its.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43000" y="385560"/>
            <a:ext cx="7772400" cy="1190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 Black"/>
              </a:rPr>
              <a:t>What Can You Do to Move Toward the NBPTS Standard?</a:t>
            </a:r>
            <a:endParaRPr b="0" lang="en-US" sz="36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In small groups, identify key concepts for which you have not yet addressed.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Discuss what you could do to improve your collaboration with families and the community to impact your students’ learning.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43000" y="14400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Multiple Pathways to Parent Communication 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Read the Handout “A Dozen Activities to Promote Parent Involvement.”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In small groups, discuss what you have done to communicate with parents.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Take notes on the BLANK “Multiple Paths to Parent/Community Communication.”  Share with the small group.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In a whole group, share additional strategies as examples of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 Black"/>
              </a:rPr>
              <a:t>two-way communications</a:t>
            </a: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 with parents and community. 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43000" y="14400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Leader, Learner and Collaborator 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Review the charts and respond to the following 3 questions: 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 Blac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How have you worked as a leader and collaborator at the local, state and/or national level within the last 5 years? 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 Blac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How have you worked as a learner, showing you have strengthened your own knowledge, skills and/or teaching practices through professional development in area relevant to you and your teaching context? 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 Blac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How have you worked with students’ families and the community to show on-going, interactive, two-way communication that focuses on student learning?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43000" y="14400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How Can You Show Evidence As A--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LEADER, LEARNER, COLLABORATOR?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Answer each of t he questions in writing as a bulleted list.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In small groups, share your responses to each question. 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Share your lists with the whole group. 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Take notes on what you may do to show more convincing evidence.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43000" y="14400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Significance and Impact on Student Learning 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Individually, read the Handout “Chart for Professional Collaboration.”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Choose one activity from the brainstormed lists to write under the “Activity” heading.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Read the Handout “How To Document Your Accomplishments.” 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In a whole group, discuss the “guiding questions” for each section (description, significance, and student impact).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In small groups, discuss how the activity listed on the overhead. was significant and how it impacted student learning, using the handout as a guide.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In a whole group, report the responses of your group.  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43000" y="14400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Writing About Your Accomplishment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Read the Handout “Documented Accomplishments Categories” chart.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hoose 1 of your activities from each area that meets the criteria and make notes in each column—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Activity 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Significance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Impact on Student learning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43000" y="14400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How to Document Your Accomplishments 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Read “Choosing Your Documentation” from the NBPTS portfolio instructions for your certificate.  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In a whole group, discuss the 3 types of documentation: 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 Black"/>
              </a:rPr>
              <a:t>artifacts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 Black"/>
              </a:rPr>
              <a:t>verification forms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 Black"/>
              </a:rPr>
              <a:t>communication logs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Brainstorm a list of possible types of evidence to support your accomplishments. 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43000" y="8139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Outline 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Opening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Using the Rubric and Standards to Plan and Analyze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ategories of Accomplishments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Professional Collaboration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Family Partnerships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Leader, Learner, Collaborator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Activity, Significance, Impact on Student Learning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Writing and Documentation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43000" y="14400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Writing About an Accomplishment 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 Black"/>
              </a:rPr>
              <a:t>Read the Handout “Guide for Collaborative Accomplishments.” </a:t>
            </a:r>
            <a:endParaRPr b="0" lang="en-US" sz="2600" spc="-1" strike="noStrike">
              <a:solidFill>
                <a:srgbClr val="ffffff"/>
              </a:solidFill>
              <a:latin typeface="Arial Black"/>
            </a:endParaRPr>
          </a:p>
          <a:p>
            <a:pPr marL="332640" indent="-33264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 Black"/>
              </a:rPr>
              <a:t>In a whole group, discuss the sentence stems that provide guidance for how to write about accomplishments.</a:t>
            </a:r>
            <a:endParaRPr b="0" lang="en-US" sz="2600" spc="-1" strike="noStrike">
              <a:solidFill>
                <a:srgbClr val="ffffff"/>
              </a:solidFill>
              <a:latin typeface="Arial Black"/>
            </a:endParaRPr>
          </a:p>
          <a:p>
            <a:pPr marL="332640" indent="-33264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 Black"/>
              </a:rPr>
              <a:t>Individually, complete the sentence stems for 1 of your activities.</a:t>
            </a:r>
            <a:endParaRPr b="0" lang="en-US" sz="2600" spc="-1" strike="noStrike">
              <a:solidFill>
                <a:srgbClr val="ffffff"/>
              </a:solidFill>
              <a:latin typeface="Arial Black"/>
            </a:endParaRPr>
          </a:p>
          <a:p>
            <a:pPr marL="332640" indent="-33264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 Black"/>
              </a:rPr>
              <a:t>In small groups, share each stem. Each group may record 1 example on chart paper.</a:t>
            </a:r>
            <a:endParaRPr b="0" lang="en-US" sz="2600" spc="-1" strike="noStrike">
              <a:solidFill>
                <a:srgbClr val="ffffff"/>
              </a:solidFill>
              <a:latin typeface="Arial Black"/>
            </a:endParaRPr>
          </a:p>
          <a:p>
            <a:pPr marL="332640" indent="-33264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 Black"/>
              </a:rPr>
              <a:t>In whole group, clarify meanings, answer questions and share examples from each group.</a:t>
            </a:r>
            <a:endParaRPr b="0" lang="en-US" sz="26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43000" y="8139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Next Steps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Read the handout “Practical Tips for Getting Started With Entry Four.”   Clarify the ideas presented.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List on a 3x5 card what next steps you will take in order to complete Entry Four.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43000" y="8139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Outcomes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andidates will have the opportunity to—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To use the NBPTS directions and standards to analyze how they impact student learning by collaborating with other professionals and parents and by utilizing community resources.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To use tools to prepare and analyze written commentaries and documentation for Entry 4.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43000" y="8139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Outlining Rubric 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Review the Handout “Finding Evidence of the Rubric and Standards in a Video and Student Work Entries” to see generic key concepts.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Read Portfolio Direction “How Will My Response Be Scored?”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List key concepts on the Handout “Blank Finding Evidence of the Rubric…”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43000" y="14400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NBPTS</a:t>
            </a:r>
            <a:br>
              <a:rPr sz="4400"/>
            </a:b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Rubric and Standards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Read through NBPTS Standards identified for this entry to find more information about the key concepts through-- 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larification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Examples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Descriptions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43000" y="14400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Planning and Analyzing Stages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Planning Stage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Brainstorm what could be included to show evidence of each key concept in the rubric.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Analyzing Stage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List evidence found for each key concept  in the written commentary or documentation.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43000" y="14400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Three Categories of Accomplishments 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 Black"/>
              </a:rPr>
              <a:t>Read the handout “Documented Accomplishments Categories Diagram” Note that you should present evidence of your accomplishments in each of the three identified categories.</a:t>
            </a:r>
            <a:endParaRPr b="0" lang="en-US" sz="26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 Black"/>
              </a:rPr>
              <a:t>In three small groups (1 for each category), record on chart paper  a brainstormed list of 3 possible activities your selected category.</a:t>
            </a:r>
            <a:endParaRPr b="0" lang="en-US" sz="26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 Black"/>
              </a:rPr>
              <a:t>In a whole group, discuss the ideas for each category and identify activities that might overlap into 2 or more categories.</a:t>
            </a:r>
            <a:endParaRPr b="0" lang="en-US" sz="26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43000" y="20484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 Black"/>
              </a:rPr>
              <a:t>NBPTS Standard for Professional Collaboration</a:t>
            </a: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Independently, read  the standard in your certificate for professional collaboration and highlight the key concepts.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In small groups or pairs, list  key concepts found in the standard on chart paper and post in the room.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Skip lines so there will be room for ideas on post-its to be placed during the next activity.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Independently, take a gallery walk and read the key concepts from the standards.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Add newly discovered key concepts to your Handout “Blank Finding Evidence of the Rubric and Standards in a Video”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43000" y="264600"/>
            <a:ext cx="7772400" cy="1311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 Black"/>
              </a:rPr>
              <a:t>Professional Collaboration:  What You Already Do</a:t>
            </a:r>
            <a:endParaRPr b="0" lang="en-US" sz="40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 Black"/>
              </a:rPr>
              <a:t>Review the key concepts from the NBPTS standards listed on chart paper.</a:t>
            </a:r>
            <a:endParaRPr b="0" lang="en-US" sz="26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 Black"/>
              </a:rPr>
              <a:t>In small groups, share specific activities you already do that shows evidence of each key concepts. </a:t>
            </a:r>
            <a:endParaRPr b="0" lang="en-US" sz="26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 Black"/>
              </a:rPr>
              <a:t>Write each different activity on a post-it note and place the notes under the corresponding heading on the chart paper.</a:t>
            </a:r>
            <a:endParaRPr b="0" lang="en-US" sz="26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 Black"/>
              </a:rPr>
              <a:t>In a whole group, report out reading the charts and post-its.</a:t>
            </a:r>
            <a:endParaRPr b="0" lang="en-US" sz="26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3T18:41:41Z</dcterms:created>
  <dc:creator>College of Education</dc:creator>
  <dc:description/>
  <dc:language>en-US</dc:language>
  <cp:lastModifiedBy>Suzanne Martinez</cp:lastModifiedBy>
  <dcterms:modified xsi:type="dcterms:W3CDTF">2011-09-22T16:19:53Z</dcterms:modified>
  <cp:revision>17</cp:revision>
  <dc:subject/>
  <dc:title>Assessing Literacy</dc:title>
</cp:coreProperties>
</file>